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01B-1E5B-422F-99E7-835632C1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400-A13C-4FEB-8385-48F24338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6E8-14DF-44F3-B14D-55F8B166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5B7-8DB3-4A3B-B4DA-AF4D0E71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31B2-21CE-4687-AD4C-F4076E3F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8EF4-5E62-4D92-8F62-6E326062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B836-E710-4D89-AD86-9491CB02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2043-DC7C-47CE-AD5E-C69B72F4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5E49-D37E-47D2-A974-A6524679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58FA-515A-49E5-80D4-40D27A4B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DDFB-DED0-4E26-8773-9BD1899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E43-3A75-4AD1-BD11-A3C39E2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F968-7178-4919-A950-578CB2A2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5F4C-806A-4F43-B0FF-849EDA21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8B15-3288-494E-A5C6-CD265D50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63F0-80A8-4BEE-B860-D84BD9EA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72D4-4C09-43EA-919F-D3824AC1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176-4F87-4F1F-B83E-C6BB0A9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C99-0142-49C9-BEC8-083676C8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AB0-6FD3-488F-A1FD-4B5B0794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8CA-2A36-49F8-80D0-E7551886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E32-D692-47C8-A4EB-4EA8511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BB1-10EC-4954-8EAB-6335EFB6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7D0-B9D5-4D1B-AAE1-5D20BC3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98BA-B3AA-463D-B5EE-F5AA2A865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3E27-53FA-412D-B326-85C1F400E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7980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алендарный план ПОС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47640" y="189000"/>
            <a:ext cx="657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cc00"/>
                </a:solidFill>
                <a:latin typeface="Arial"/>
              </a:rPr>
              <a:t>Печать результатов расче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cc00"/>
                </a:solidFill>
                <a:latin typeface="Arial"/>
              </a:rPr>
              <a:t>продолжительности строительств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817236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92240"/>
            <a:ext cx="812160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составления календарных планов строительства объектов в составе ПОС на ранних (предпроектных) стадиях инвестиционно-строительного цикла. Основой проводимых расчетов служат нормы продолжительности строительства зданий и сооружений, в том числе "Нормы продолжительности строительства и задела в строительстве предприятий, зданий и сооружений" (СНиП 1.04.03-85*), "Рекомендации по определению норм продолжительности строительства зданий и сооружений, строительство которых осуществляется с привлечением средств бюджета города Москвы" (МРР-3.2.81-12), "Нормирование продолжительности строительства зданий и сооружений,  ЦНИИОМТП" (МДС 12-43.2008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В программном модуле учитываются различные условия возведения объектов в отраслевом, территориальном, конструктивном и других аспектах. При расчете продолжительности строительства объектов используются методы интерполяции и экстраполяции, показатели строительства объектов-аналогов и т.п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олученный календарный план строительства объекта определяет сроки и очередность строительства основных и вспомогательных зданий и сооружений, технологических узлов и этапов работ, пусковых или градостроительных комплексов с распределением капитальных вложений и объемов строительно-монтажных работ по зданиям и сооружениям и периодам строительств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2384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030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5648400"/>
            <a:ext cx="835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подобъекта (вида работ) определяется начало и окончание строительства, продолжительность подготовительного периода на основании выбранного метода расчета:  вручную,  по стоимости СМР по СНиП 1.04.03-85*,  по объекту-аналогу по СНиП 1.04.03-85*,  по объекту-аналогу по МРР-3.2.81-12, по объекту-аналогу по МДС 12-43.2008. Также при необходимости могут быть определены показатели задела (готовности) по месяцам или квартал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16000" y="946080"/>
            <a:ext cx="720108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ный метод определения продолжительности строительств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4360" y="58053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определения продолжительности строительства объекта, не имеющего прямых норм, используется расчетный метод, основанный на функциональной зависимости ее от стоимости строительно-монтажных работ в ценах 1984 г. При использовании расчетного метода коэффициенты к нормам не применяю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08000" y="1052640"/>
            <a:ext cx="58327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Выбор отрасли (подотрасли, вида производства и объектов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55640" y="3959280"/>
            <a:ext cx="812160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основных отраслей зависимость продолжительности строительства объектов  Т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от стоимости строительно-монтажных работ  С выражается в виде функци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де  С - объем строительно-монтажных работ, млн. руб., в ценах, действующих с 1984 г.,  А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, А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- параметры уравнения, определенные по данным статис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етод применим для интервала объемов СМР по отраслям, подотраслям, видам производств и группам объектов, приведенных в справочни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456680" cy="2686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3995640" y="4508640"/>
            <a:ext cx="1457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115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продолжительности строительства по объекту-аналог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продолжительности строительства объектов используются методы интерполяции и экстраполяции на основании нормативной продолжительности строительства объектов-аналогов в соответствии  со СНиП 1.04.03-85*,  МРР-3.2.81-12 или МДС 12-43.200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50920" y="1033560"/>
            <a:ext cx="554544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115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объекта-аналог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ыбор объекта-аналога производится из соответствующей нормативной базы. Для объектов из базы СНиП 1.04.03-85* также определяются показатели готовности объекта по капитальным вложениям (полной сметной стоимости) и стоимости строительно-монтажных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741708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47640" y="189000"/>
            <a:ext cx="6577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Учет природно-климатических факторов и технологии производст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троительно-монтажных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6440" y="56545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продолжительности строительства объектов необходимо учитывать воздействие природно-климатических факторов  на  условия  труда, технологию производства строительно-монтажных работ и т.п. Данные факторы могут быть учтены при расчете благодаря использованию понижающих или повышающих коэффициен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2050920" y="1749600"/>
            <a:ext cx="611532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47640" y="189000"/>
            <a:ext cx="657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выходного докуме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11280" y="3579840"/>
            <a:ext cx="8121600" cy="29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и проведения нужных расчетов пользователь может сформировать и открыть в текстовом редакторе фрагмент пояснительной записки ПОС по расчету продолжительности строительства и задела (при необходимости). При создании отчета пользователь может задать следующие дополнительные требования к отображению в нем показателей задел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период (нет, по месяцам, по кварталам, по годам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масштаб цен (тыс.руб., млн.руб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и этом в документ будет выведена следующая информа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исходные данны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рассчитанные знач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формулы, использованные для расче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названия нормативных документов – оснований проведения расче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2987640" y="1197000"/>
            <a:ext cx="3051360" cy="19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7:38:12Z</dcterms:created>
  <dc:creator/>
  <dc:description/>
  <dc:language>en-US</dc:language>
  <cp:lastModifiedBy>-</cp:lastModifiedBy>
  <dcterms:modified xsi:type="dcterms:W3CDTF">2017-01-10T13:25:07Z</dcterms:modified>
  <cp:revision>255</cp:revision>
  <dc:subject/>
  <dc:title>Слайд 1</dc:title>
</cp:coreProperties>
</file>