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5E1-A71B-4886-B8F2-73AF1C65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43D-1934-43DF-85FB-3A6C07A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9C4-D2E5-4EB0-B220-BC64C9AD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001-D5C3-4A4F-879D-58A28E5C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2889-483C-4929-BCEF-9DE1083A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7A82-28EF-43CD-9B66-F00AD27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7C3-D72E-4CE9-80A4-6144651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B7AE-0A34-4B2B-9575-932D23F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A40C-679A-47F8-AA7D-0D8DF54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656-908B-4395-A642-96A25743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1F43-018D-4A62-9080-7229F232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02D-39E1-49DB-BA1B-D9D66E4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9FD-F8FC-4824-B6B0-193CE4AC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AA14-A4B0-4C15-B2CA-B896615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A37-6568-447D-81FF-E5E7B56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1008-1292-4A07-9FEB-E7C5D6F3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F6BC-783F-43C4-99F8-8251E8B2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13D-661D-4E7F-A309-9105096F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97E-D2EC-4159-B47E-75B20995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762-CC44-4D07-9EE1-35E4AB46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851-13B3-43A6-AFF1-B18F881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0C3-937F-4767-940C-85AE70F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E1B-87BC-4A1B-8003-A573EE3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6C0-29E1-4D90-9778-D0727A9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2993-3B8B-41E5-8342-EAE9488C2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96F-4980-42A1-9836-F7B7DABBE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ое планирование производства работ» (ПП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шинах и механизм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82087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47640" y="11592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движе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чих кадров по объект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28720" y="1125360"/>
            <a:ext cx="79912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93760"/>
            <a:ext cx="812160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производства работ по возведению здания, сооружения или его части на уровне документации для П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ляемом календарном плане производства работ устанавливаются последовательность и сроки выполнения работ с максимально возможным их совмещением. Исходной информацией для календарного плана служат показатели сметных расчетов: перечень работ, необходимые для выполнения работ ресурсы, трудоемкость выполнения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ном модуле реализованы простые и эффективные способы взаимоувязки выполняемых работ, что дает возможность легко и быстро построить сетевую модель и оптимизировать продолжительность выполнения работ для различных вариантов их выполнения. Предусмотрена возможность учета фактически выполненного объема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формировать документы, предусмотренные составом и содержанием ППР: календарный план производства работ, графики потребности в материалах, машинах и механизмах, графики движения рабоче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ксимальное использование результатов сметных расче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373720"/>
            <a:ext cx="81216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ализован импорт информации из сметных программ: в формате единого блока обмена АРПС 1.10 и в формате программы "Гектор: Сметчик-строитель". В программу календарного планирования автоматически загружается перечень работ из сметы, необходимые для выполнения каждой работы ресурсы, трудоемкость выполнения рабо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подключения любой сметно-нормативной базы данных и/или создания собственной базы дан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87280" y="981000"/>
            <a:ext cx="6624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тевая модель 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5166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стые и эффективные способы взаимоувязки работ позволяют легко и быстро построить сетевую модель. Можно задавать условия начала работы в зависимости от процента выполнения или количества дней после начала/до окончания какой-либо из взаимосвязанных работ календарного пла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19280" y="1000080"/>
            <a:ext cx="609588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31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Диаграмма Га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1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водить многовариантные расчеты сетевой модели (критического пути, резервов времени) с оптимизацией по продолжительности выполнения работ при изменении количества машин и механизмов, составов бригад, технологических схем производства работ и других парамет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19280" y="838080"/>
            <a:ext cx="61214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мпорт объемов выполнен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11280" y="5661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вод фактического выполнения объемов работ возможен посредством импорта актов выполненных работ из программ сметных расчетов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 и ручной ввод фактических объемов для работы или группы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6193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ногоуровневые календарные пла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5805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многоуровневых вложенных календарных планов производства работ дает необходимую степень детализации календарных планов и возможность объединять календарные планы для управления ресурсами на уровне строительной организа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календарного пла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7920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териал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57080" y="1125360"/>
            <a:ext cx="7991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1:33Z</dcterms:created>
  <dc:creator/>
  <dc:description/>
  <dc:language>en-US</dc:language>
  <cp:lastModifiedBy>-</cp:lastModifiedBy>
  <dcterms:modified xsi:type="dcterms:W3CDTF">2013-06-24T11:55:47Z</dcterms:modified>
  <cp:revision>188</cp:revision>
  <dc:subject/>
  <dc:title>Слайд 1</dc:title>
</cp:coreProperties>
</file>